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E74-FDEF-4C5E-A9F3-FFF7C020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A81-EE12-48DF-989B-DA5171DF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694-3249-4334-9123-7EE9F5EC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301-65E0-4A1E-B2A6-67FDABE1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36DD-626D-444F-B878-EB0611D4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C6D4-8B2B-4B29-ABE6-22767D7C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1B96-41AE-4AB7-A0A2-73619EFB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B87D-0EAF-4393-824E-F267610F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25DD-DA61-4CE2-9838-522C855A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C777-9AA2-4689-9F7E-9CC437B8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32A2-A0B4-424E-B90D-7A7E1064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101-59D4-4D33-A0F8-06C33195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DE84-13E8-442F-A73B-4A5003EE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1446-0A86-4796-BF7B-538E7C61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D5B0-D7E0-4A12-950C-FA01F16E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D994-6AC7-4F2E-937F-A90F1856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A749-AF75-4968-83D5-ABEECD1E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4E80E-DDA6-41FF-AAF6-C1B7CABA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70BEC-1C9A-4C26-80C3-26B07857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C531A-0525-4200-9DDA-73F6A3F3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8FEAF-9F7B-4CB6-A33B-75CC9D3D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9BF5B-4C12-4E9D-965D-10BAE737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30D-00BE-4B16-B9AF-6372BD95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97D4E-8B5D-45F8-91E3-6B35C125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CD1AD-B913-4DDA-B2AE-4DECF620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84749-E662-422A-8B19-A687C1A4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1CBCA-11AE-4163-AB70-68165235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D032C-B756-48DC-BA7F-70460197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D0F66-4B63-43E8-A28A-8B42F7F5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7A56C-24A6-4569-A1BB-C26FBE9D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DA9B3-748B-41BE-B9B1-0754C500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18B82-D6E8-402F-9B17-980EDA0D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4FFAF-9E99-4CE2-AB18-EB7B754A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C74-1FCB-48F4-BCFE-17D87298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FD413-3C4D-477F-A5CD-D473385F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0623-95A3-4B5E-86AF-CBCBC2BE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BFC24-CBD6-416A-B468-8137CD44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D5419-9F7D-4E65-A52C-8B142D58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B4212-9F91-4ED4-99A0-C1420865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13092-9E5A-45BA-A70D-CCEE02DE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FA3E7-2D1F-46F6-8E0B-99830B88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B3B86-6EE2-4B96-8C9E-B27A4CC7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986BB-2FE3-47FC-A996-A4944C4E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C5C46-7061-4C19-977D-1794914C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B3A-C6C5-4A18-AD9E-A6ADE1B9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D2786-498E-4916-866C-FF64071D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DCBDA-F075-450C-8849-C89FAE8A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46E77-8870-48C6-BBD1-A918B670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A84FB-CA81-47D7-982D-56C174DF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C6D4C-6E28-4F56-8FD0-059D1267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9048E-69E1-45BE-A084-74166C2D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75BDE-BB7E-4963-9F57-A37BBC7E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DBD50-B611-48FB-ABE6-2D43F0D7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B18E0-04C6-4989-85D8-DD9E8400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96DAC-8C4F-478C-B227-C5AF1754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BA45-12E8-446F-9656-67A59908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7EE5C-6464-4EA6-ACD5-80411D1A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4ECE4-7EC7-49CD-AE4E-7D76529D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04199-F073-4FD6-9CF3-BD485F89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82841-4C2E-4AF8-AE04-08DA1F86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F57E3-34D2-499A-86C4-624A5C11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85BDE-8CBA-40B8-9D47-911ACA3B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EFFEA-E402-450B-A8DE-2D122050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E133B-7D58-4214-B8A9-C32B9E9A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54913-F5B1-44C0-BE9E-E8716BCA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4141A-DB89-4026-B39C-491A8D85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4D0-49AC-40BF-8004-9E88C674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DDD51-7266-4F81-90BE-CF0B57AF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EFD1A-4D81-4C22-8B48-717D70EF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021DC-1620-4B69-AA5A-8C516E30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DDCA3-2B58-4328-8CD0-AE1191A9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F7DA7-6C11-4EDE-9C01-5B456703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12628-5A0B-45FB-AD9E-30379620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D40C3-98BE-4A5A-9C72-02D96527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7266B-7E9A-4843-A818-34E26570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836B0-015E-4EF0-A881-FE300EAC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B50CA-BDE9-451D-A0ED-B3CD5146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22C-F33B-4FD1-BAD5-EEF707C8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1614E-04E0-422A-BE6A-CEABFBEE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C81CB-2963-4DC1-8C74-A5D4E91E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EDB23-8C68-4B4D-BF50-36BD919E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7FDEE-917C-4D78-9570-531AD2A9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801AB-3AEB-4248-ACD3-36FB8012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109-20AD-4226-AA7F-4A746F2A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36D8-EB20-4BB6-BA97-E332DDBC3D74}" type="slidenum"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reptunghi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reptunghi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reptunghi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reptunghi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reptunghi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reptunghi rotunjit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reptunghi rotunjit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reptunghi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reptunghi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reptunghi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reptunghi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01BC-3B0B-495B-8042-A61D80354D1D}" type="slidenum"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F366-E3E0-468D-919A-C7F1F5196210}" type="slidenum"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5874-6FE9-47E8-9564-8B3F626DA820}" type="slidenum"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D293-A10B-4B97-BE14-435E8812BA77}" type="slidenum"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0A63-A754-46A6-8508-FB4BB9AACC25}" type="slidenum"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26C6-206C-4E9C-BDC2-E2D6F55440E4}" type="slidenum"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Les t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Arial"/>
              </a:rPr>
              <a:t>é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l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Arial"/>
              </a:rPr>
              <a:t>é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visions en Franc</a:t>
            </a:r>
            <a:r>
              <a:rPr b="0" lang="ro-RO" sz="4400" spc="-1" strike="noStrike">
                <a:solidFill>
                  <a:srgbClr val="ffffff"/>
                </a:solidFill>
                <a:latin typeface="Trebuchet MS"/>
              </a:rPr>
              <a:t>e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219320" y="43434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424456"/>
                </a:solidFill>
                <a:latin typeface="Georgia"/>
              </a:rPr>
              <a:t>France 5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8" name="Imagine 5" descr="untitled.bmp"/>
          <p:cNvPicPr/>
          <p:nvPr/>
        </p:nvPicPr>
        <p:blipFill>
          <a:blip r:embed="rId1"/>
          <a:stretch/>
        </p:blipFill>
        <p:spPr>
          <a:xfrm>
            <a:off x="4952880" y="3048120"/>
            <a:ext cx="2381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ogramele canalulu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b050"/>
                </a:solidFill>
                <a:latin typeface="Georgia"/>
              </a:rPr>
              <a:t>Animateurs 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b050"/>
                </a:solidFill>
                <a:latin typeface="Georgia"/>
              </a:rPr>
              <a:t>Des Documentir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b050"/>
                </a:solidFill>
                <a:latin typeface="Georgia"/>
              </a:rPr>
              <a:t>Actu societ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b05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b050"/>
                </a:solidFill>
                <a:latin typeface="Georgia"/>
              </a:rPr>
              <a:t>D”Histoire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b05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b050"/>
                </a:solidFill>
                <a:latin typeface="Georgia"/>
              </a:rPr>
              <a:t>Des Emissiones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nsera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  <a:ea typeface="Arial"/>
              </a:rPr>
              <a:t>ţ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 un tip de emisiune (ex: stiri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b050"/>
                </a:solidFill>
                <a:latin typeface="Georgia"/>
              </a:rPr>
              <a:t>Les aventures de Geranimo  Stilton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b050"/>
                </a:solidFill>
                <a:latin typeface="Georgia"/>
              </a:rPr>
              <a:t>Les zouzou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b050"/>
                </a:solidFill>
                <a:latin typeface="Georgia"/>
              </a:rPr>
              <a:t>Isoler sa maison por l”exterieur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b050"/>
                </a:solidFill>
                <a:latin typeface="Georgia"/>
              </a:rPr>
              <a:t>France 5 emploi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83" name="Substituent conținut 12" descr="jp3hh72w.jpg"/>
          <p:cNvPicPr/>
          <p:nvPr/>
        </p:nvPicPr>
        <p:blipFill>
          <a:blip r:embed="rId1"/>
          <a:stretch/>
        </p:blipFill>
        <p:spPr>
          <a:xfrm>
            <a:off x="4114800" y="5029200"/>
            <a:ext cx="4038480" cy="587520"/>
          </a:xfrm>
          <a:prstGeom prst="rect">
            <a:avLst/>
          </a:prstGeom>
          <a:ln w="0">
            <a:noFill/>
          </a:ln>
        </p:spPr>
      </p:pic>
      <p:pic>
        <p:nvPicPr>
          <p:cNvPr id="384" name="Substituent conținut 11" descr="geronimo-stilton-408830.jpg"/>
          <p:cNvPicPr/>
          <p:nvPr/>
        </p:nvPicPr>
        <p:blipFill>
          <a:blip r:embed="rId2"/>
          <a:stretch/>
        </p:blipFill>
        <p:spPr>
          <a:xfrm>
            <a:off x="5573880" y="1600200"/>
            <a:ext cx="2187360" cy="218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Introduce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  <a:ea typeface="Arial"/>
              </a:rPr>
              <a:t>ţ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i cateva informatii generale 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  <a:ea typeface="Arial"/>
              </a:rPr>
              <a:t>ş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i atractive despre tipul de emisiune prezentat mai sus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ntroduce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  <a:ea typeface="Arial"/>
              </a:rPr>
              <a:t>ţ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 alt tip de emisiuni difuzate (ex. seriale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roduc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numele emisiunilor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repet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aplic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a pentru fiecare tip de emisiune difuza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respec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â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d formatul de mai s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roduc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o imagine la alegere (prezentatori TV, actori ai unui serial, etc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La une (emisiunea cea mai interesanta de pe postul respectiv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scrieti pe scurt emisiunea care v-a atras atentia inserand o secventa filmata din aceast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De ce postul tv respectiv?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tivati modu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 care postul tv ales 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flue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z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vi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de zi cu zi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gument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unsul din perspectiva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ăţă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ii limbii francez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ev</dc:creator>
  <dc:description/>
  <dc:language>en-US</dc:language>
  <cp:lastModifiedBy>user</cp:lastModifiedBy>
  <dcterms:modified xsi:type="dcterms:W3CDTF">2011-10-26T10:57:5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